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52EA-7734-496A-9446-D70F436A0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0174-49E5-452A-A4CB-C04A71AB4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672F30-46A1-4AAF-80DC-147203C37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B34A60-6DD4-4405-BBD3-ED13D7579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36E703-A314-4685-859C-7617C5FB7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447EE5-9CE6-4EA6-8F4C-2FDAE50D1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FE80DD-7340-402E-BFC1-89F370A1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E3958B-052C-4FE2-83B0-E769C382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59403E-FA2B-469B-BC8F-1992883F8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A7B2DB-F287-41C6-A9D7-443AEABA3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A2EBF6-B831-4318-9B8E-22A035521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2B9D85-B519-4214-9F0E-5DAC924D4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20A6-0179-45EA-85F0-4EC128F1A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AF26A6-6C2B-4DD2-B960-285361314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23CDF3-F3F7-4255-80EF-736E1067E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C89B96-D221-48CA-8A8B-BDB255B75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BCBC88-8DE7-48A0-89DC-AEE992C82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7BA1CA-2BFC-47C1-809D-B032C287D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2B7718-B675-4576-A4BA-79059EDE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BA07F2-8501-4AB4-B119-781B7A827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638DAA-4ECE-454E-98AA-7C09DE67F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D061AC-A839-4EDB-AFFB-73F3D8D94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677473-D49F-4A93-A165-D846FC333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A5D8-CB0E-4763-80A2-90F23C269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6364E4-C57E-4EA9-988B-504F47211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729284-2FBB-49B6-A4A4-60AF97C1B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2C8450-CE76-47BC-A512-12B8EFAF8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110319-F099-423B-9051-251D61ECE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1894E3-9C8D-4E87-A72F-E99B4D741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D72363-D075-4447-93D6-21F2BB0CA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BC2C73-ECDD-4FFB-94FE-00716D320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57D84A-0E09-4036-8A6F-84B186D43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2902B3-9D69-4428-B493-A7B04714A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4B1743-BD96-419A-B3E6-8222A775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A4065-B8ED-4EC6-B445-04DCCC952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536295-E7ED-47B7-83DE-B5EDF55B2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29A482-5BC3-4F77-9A0D-05B62F257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E6F0A4-0651-4B1B-B787-5511670D0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EA8A53-8A0D-45D0-BEF0-D0209D1BC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A9C2E3-6D4E-401A-9D80-98E87DE23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24C50A-8C73-4AD0-BB0F-EDD1840BB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8E424C-B078-4B25-AF99-B41B51B63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CD3B50-DD2E-4E00-83C0-A61452934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EFDAD0-C8FB-40D3-A860-5BA116476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FE6739-ED3A-4128-9BDB-7D0C3EB9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F3256-51BF-429A-903A-FC9F3A2E5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7D086B-0DEA-4EC6-8915-BD9FC5123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2274E7-958B-40E2-ABFA-1CF2C5FA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47AA9B-BF04-458C-ADAC-3E1AFD041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F6F911-616B-4907-ABEB-0EB12918F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D6DE6D-FEFC-40DC-B0C6-5AF10320F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693228-8AE2-4DF0-8307-DB5F99102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41D28F-F388-4EF3-BA0E-CEBFED90A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3685AB-6BD7-45C0-BBC6-968053F36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1445BF-B173-4875-A62C-602C7E341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B813AB-5640-4E7D-9B82-E693751CF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F15DE-4306-47C2-9ED6-D042B3C79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5B044D-D069-460F-96A5-AFC8EC888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708633-DDAC-4BBA-8BE5-59FB21F5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AA0AAA-D693-4C9B-B0FD-D90F3D55B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112149-D00A-4B3C-AD3C-44533E02E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36DD93-FF7E-46F9-93BF-768F72CDA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72277A-0A8C-4074-BA70-E1555D0B4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6220CE-ABA3-44B7-A9A0-A5DE1F78A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0F2989-26F5-4B58-9632-777C8C3F1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3F663F-7D60-4225-A899-6C5E17095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C60E87-8C40-4495-899A-C963DB3D4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243B5-F26B-4320-B031-C1F81F29F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1CA5C2-3C64-41B1-B3EC-EEC0A66D9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313B1F-E9AF-49CC-ABD1-70538095F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4B346A-9D30-4AD0-823B-E0D021109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295304-107A-4BD7-ADFF-064A4DC6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008634-26B3-4C24-8939-C13384410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5A1E67-4641-4DA0-B9CB-E4BC1C1D5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F060BC-2730-4E88-93A7-20C4A1681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3B6CEE-7FC4-4E78-9806-D7AE3A43D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3950EA-6CEE-413F-94FD-E4E794EB1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2B57E6-6919-4197-95A6-7FFDC20B2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09EA7-A2FD-4CCF-80C5-D481A5564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5F5029-E951-4DA1-AEDB-DD5942400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EFDF41-A51B-4351-B44A-D0048EFF3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72C3EA-4417-4F2C-980E-10DC8217D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D969E7-4E90-46A2-A145-D5C0F8E1E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B50EC1-2D74-46E3-BD45-41B1CC81D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008331-C238-4B09-8E2D-6CB29EA5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124CF6-E040-4091-808A-2FD11D28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7F1740-5935-4439-A402-A639946F2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F2BAD7-F82B-46FA-86E9-F12FA7475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364A4C-3B5A-4BB9-9745-57F6A60E8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029D2-F1D5-4EE4-920F-9C022530F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DC67E7-93E1-4BF3-875D-16EA19F7F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D99589-DAB5-4ADE-8B3E-E493E2BE6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21CF5B-FCEF-468E-951C-63CACAD8F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ABF96F-9E6C-4405-9DFA-C91767676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45F0D2-1F60-498E-918E-DF2A7AF76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F604EF-4F75-4E9B-AD43-078263280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C582A3-7408-4F4B-B600-AFB42052C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4A1B66-AC86-4E18-AF04-C732B178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072E29-FD15-4963-A109-5D907EC7D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232A98-B0D9-45E7-BA06-894D02A6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4A68E-92F3-4C60-9A32-074CF588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56A63E-81C1-4B5F-9528-966A4C823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9B41B7-BAEE-4566-A85C-F66C65B2F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D4A40C-F357-4A0C-B46F-04D1D753B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1A1EE2-5F6F-41D2-869A-D30009CA9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EEAA54-4F3A-45AF-B548-FD1EE8475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A44C2C-8E03-463C-9666-7B4CD9796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2BB497-EF19-44E7-BBBD-8D42BF335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5ED89D-1D5B-4982-89D7-FE45D6D54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6EAB6C-9717-42D6-AC5A-58A4D5569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42F614-9736-409F-8172-6E8BC7E71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D789-9D32-4981-939D-CD2BCB1B0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F31C5-EF1D-43D5-BCA3-9D65EB176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F3426A-A142-436A-86FB-6B38C52D1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358F63-8396-492A-B84A-6375034C6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20F0B4-8915-426B-AF07-4A22F7446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1FE4A2-E442-4B57-A607-C4F619406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EF3500-E08B-4BDE-B317-9D7F85516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6316DC-EC30-403A-98F3-03210F4E1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FE996E-E061-4F96-8F1C-E7AD9A7FE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A25F47-0DFE-4459-A792-E24C0282F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94FDD3-22FB-40F6-8E52-B790B5E8E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63D6C9-B091-49DE-AEA5-7560E8830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4897E-6B8D-4874-AFD5-527378134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FC773B-88C5-4741-AC17-5C0456B2C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9F75FC-C9CD-4874-B55F-09682EE2B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CB2C08-DE3C-46F4-B96A-A112537C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579558-5FFD-42CC-863C-3AEE1BB8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7D78F5-F885-435C-B65E-C2303C4AA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809ADA-5C19-424D-8B72-9F9E2C50B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E79B88-7C60-4504-83CE-F27AEC087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91533E-B9BA-4511-B746-24490F36A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1ABD75-434E-42F5-B755-15076A32B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40F664-8B88-4CD0-B66A-86FA0F16C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699DE-0000-42AF-B037-A7D7507DD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26B45A-6F3C-4430-BB84-C766C623F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143C7D-79F8-456D-B19C-FD8F5B0AA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02447D-2504-4B08-AF2C-9B7E8016D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7AF558-B915-4907-9482-6F6BACE19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4EC804-AE6C-42E5-8D3A-D72FB403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060583-65BD-4F86-AEE5-79726D197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B16E2C-0301-4CC6-B5FA-D987C3EEE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803E3D-6C1D-480B-83EC-8ABA65F4F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14A91C-D8A8-46A9-9B8F-635826FFD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8E66A9-B3F0-466A-94FB-D6B766883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099E1-8C09-48FE-ADA4-0E15486AC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A40D16-6DF5-492C-81BD-1D90DF610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803C20-A323-4982-928A-F18DEACA0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7CB289-7875-44AA-AAB5-643949758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08FD7F-6DE8-441D-AA72-EA435B587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E74CD4-589E-451A-B089-F12D58644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B4218B-7940-4501-880A-667272478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99E252-C45D-488A-B880-CD6857B9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56FE6D-26EB-473F-80DE-83C59BFE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2D53C2-7839-4807-8F12-4D2755146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30A1F3-C204-42D6-A37A-94D9E4344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F5507-2FCC-4828-8A5D-1824BC745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B0A45E-77BD-4991-9E67-A8D6F0E15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8A820D-463D-4F94-AFF9-4FE447839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C14185A-F97A-4425-BE27-2F35EB420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A88B73-C8F4-4D96-8D7C-1664AAAA7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D867089-FD23-4743-B6F2-F852B998A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B09E323-7BC9-45DD-99EE-9ECBEF576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C80147-5935-4443-8F60-839285A9C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5CE2EC-1045-4E1E-8D59-6941068A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0CBB88-5E77-4AF4-8282-E90A579E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34E1C1-05DE-48FA-A6FE-4636F2E7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666A5-75A2-49C8-80BA-6666F43D3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BCFA59-F030-48F8-9CE3-069EB5D6B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66BB0E9-5513-4B3D-876B-1B98F43C7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81192C-4CEE-497E-B70E-A2C75EB57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7F80D-58EB-45F8-83A2-707504D7E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E0BAE-363A-4798-892E-B14A5E0DC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8AB64-5B01-463C-B021-E54733E0C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6256D-1A1A-41B7-8C0F-26CB10CED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E459-A394-437C-BC55-E4725841C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C6563-9041-4330-9FF7-50CD182E8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F0EB6-687E-4008-8778-D6FE0DD6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FB857-3CB6-46CC-9ADC-F82988CD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EA598-5FFF-4F8B-86AE-5B7D995A9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6A6E9-88A2-42FB-9129-688929F99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53F87-6E0F-478B-9498-F7B98E146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026FC-CAE8-4384-89E4-A4975F81A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3A559-15AF-406F-B15C-791E2291A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2D3B9-C2BB-43BE-BF99-3FE6CCE73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796BF-E689-4783-9AEC-C01F785FD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3886-C779-457C-AB7D-561EA6FB2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ADDAD-AF1F-4B77-8E42-54639EB66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AE5B0-E71B-491C-8AF8-87F1F514E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4A5B7-D639-4D66-BF93-6FF6EAB50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1BED6-A0A4-4F8E-9AE2-46E1185AF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F3B20-A7DE-439D-BE2D-AF49ED9E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C7E7D-3B76-40D3-AE73-6BCF2C17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FA09F-24F3-4FC5-B503-32FCAA0A6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E6796-53D5-4D98-A640-8EDBB9F58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76CD4-4D26-48E9-90B3-25C7047D0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A7057E-45DE-4BD5-A1FC-766B0D931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EF31-1E01-46BC-B4B4-46F6700C6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AA634-1E3A-4B90-87A8-9B5F972A4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A4EA39-50CC-4CF2-8DC0-36E1E8F0D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EC1622-B7C5-4C3A-A2A8-FC29F325D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2A2A0-771F-4201-AE01-0E41BFFDD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68509-4A73-42B6-8422-604FAED0B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613599-6B11-4571-95F8-7607D68F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0765C6-BF47-4D24-9963-952BCFF05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A3BC9F-5B08-4AB0-99B8-B9B6FFA6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E1332B-AF90-40FF-9384-975AA3E77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397BA-418F-4DF3-B826-FAB568D68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8BB0-92D7-47B8-B90A-99B17EBF0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4DE8B-5B39-4237-BCFD-03FB4738B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03F9AA-9284-44D4-8E09-B076B2EA7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16B661-24F4-451B-967D-8C67C2975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B29FB8-CD56-4600-940D-A61AD2C63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F1910E-C6A4-44BD-B5A0-80662586D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3E5F14-4C05-4A05-A909-476712FF9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FB53A8-4435-4AF4-A063-42CA95283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F21B0D-F96F-40C3-B48E-B82FFE6B5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5F82C0-9B57-4B54-A714-A334AE04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3494EB-AEB2-4307-A51A-C91EB211C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A906-FB44-4580-90D7-8A81C4D5F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4A0796-88F9-47C8-8E14-132581AD0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697CC-8F1C-448F-B078-F23A6BE35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409109-4DE5-42BC-8AD1-B35771E3D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037AEC-A40A-41D8-B8DE-FC87DD6AF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17352F-EF83-48A4-BF8D-92481F027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66AAD2-CCC5-4F5D-9D97-A4AB0D5C6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B4327E-00A3-49AE-A426-0FFF41876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99BB52-F33D-430A-9132-8F180AD99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799498-3B00-4D26-8B54-7BD2DDCFE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E43AEC-8BA5-4887-9A12-A2115DC45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34D5-5584-47F3-A486-85C06AF0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92930E-2827-453E-BF0D-635F6A36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31BC42-5D98-420C-84F9-D19EBA652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59EF9C-A98B-4C63-BC80-324E9FF59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C20006-6CE5-413B-AF48-351D0CE84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DC8D5C-95E5-4DA6-8AA3-61CC3D21A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264391-68C5-4333-99A6-086C178D1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758C2C-9D4C-46F5-9521-7ADFDF8BF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DE5A66-79D6-498D-992F-C79EC3214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60A67A-591F-444A-A81F-481076B36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3FAF64-DC8E-4A9B-8A13-706746ABE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C8DE-C85F-4623-B056-416C28B15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0C981B-8BA3-4070-AC16-BEC8A5F2A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27B6E4-CFD6-4371-B961-21EAA4CA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A0AABE-0373-4633-BF09-592213C3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D17ADE-B05C-4E0C-93A5-ECD38313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1863EB-9D0C-46F4-921A-4B60D36A3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F1248D-B720-4FE6-A7EB-9C0651B4B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2BBB01-6522-46F6-953C-6CD2DE49A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6ED3E9-0D06-452D-BAB5-68AF5509E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EDA7F4-F244-4026-BDA1-F3A301A8D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4787D7-4725-417E-9BA2-0871109A9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0BEED-0EA8-48A0-A45F-031964AB98C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253F5-9E46-4451-90BD-B3E3D3F7053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572CB-55AD-4283-8E01-D34E2F0693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14DBC-C305-4BCD-8234-58A2C4EA4CA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C2CC0-18CE-4959-A471-B3468786F25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3A96B-72D8-4393-9923-0E030AE1CA3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CD409-4302-453C-A4AA-F93502D34C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AEE41-4884-4D3C-9B8C-8AB3C6B247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6D3AC-8814-42B5-8199-1E77DDF8F54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96156-5F2F-4E47-A54C-52542E9F3F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58991-2188-4006-B412-5F99B6BB53D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75864-C075-4455-8124-CA665886D77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AB405-6502-436D-A941-1D57EE640CC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D244B-B9CF-4756-B0F4-487D45F9881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974DA-D607-4021-A0D1-2FF8B7ED022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590BA-2E80-46E1-9DA0-3C0B6475208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AC575-56E7-4B50-9EA5-1679759346E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38584-1943-46AC-ADD3-344CFF7EC96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E3091-26FE-464F-A9D2-11597A1F241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A7232-27B2-4EC5-82CE-EDDC5B324C0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6F8A5-BD3C-4732-9519-7F53743FB29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88864-8429-4A5B-BEA1-2BDFAEA733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0CEC5-3F59-4FCE-8FD2-F8630272B9F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73F14-2987-4679-862C-AF0F81F6984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61527-332D-4974-A268-137E454E068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B7DAD-FFC6-41EA-8B8C-547B670892D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E94BC-A055-4606-AEF5-79C9E25A95E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7C527-A643-415B-AD05-AE6B48DD6BD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CD3A9-C3E5-4C5A-86FC-53342CBEC73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26C0A-6CD8-48A4-B00D-1997175BF94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0FF44-AB6C-44CB-B34F-7852F27F760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77BB2-29D0-4689-BD03-5EE064C5E20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6C79B-EC77-4C03-B84C-4A17740667F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FEAC9-DC04-4F42-B170-F9FA679253A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27AC3-E79E-4524-9480-86A4CD93E64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6EFFC-9B05-4671-9461-6917D7B9075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5F8B2-1600-4620-A97E-469842760B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21434-DE11-47D8-B0C5-19FD434F52C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0572E-B8E4-4D44-87FE-3F8987437D3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FC00A-538F-4851-8664-F1E4EC41CA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5.png"/><Relationship Id="rId4" Type="http://schemas.openxmlformats.org/officeDocument/2006/relationships/image" Target="../media/image21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15.png"/><Relationship Id="rId4" Type="http://schemas.openxmlformats.org/officeDocument/2006/relationships/image" Target="../media/image24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5.png"/><Relationship Id="rId3" Type="http://schemas.openxmlformats.org/officeDocument/2006/relationships/image" Target="../media/image28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5.png"/><Relationship Id="rId1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28678" descr=""/>
          <p:cNvPicPr/>
          <p:nvPr/>
        </p:nvPicPr>
        <p:blipFill>
          <a:blip r:embed="rId1"/>
          <a:stretch/>
        </p:blipFill>
        <p:spPr>
          <a:xfrm>
            <a:off x="1692360" y="1844640"/>
            <a:ext cx="5781600" cy="790560"/>
          </a:xfrm>
          <a:prstGeom prst="rect">
            <a:avLst/>
          </a:prstGeom>
          <a:ln w="0">
            <a:noFill/>
          </a:ln>
        </p:spPr>
      </p:pic>
      <p:pic>
        <p:nvPicPr>
          <p:cNvPr id="1023" name="图片 28679" descr=""/>
          <p:cNvPicPr/>
          <p:nvPr/>
        </p:nvPicPr>
        <p:blipFill>
          <a:blip r:embed="rId2"/>
          <a:stretch/>
        </p:blipFill>
        <p:spPr>
          <a:xfrm>
            <a:off x="1403280" y="3429000"/>
            <a:ext cx="6353280" cy="6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3" name="图片 77825" descr=""/>
          <p:cNvPicPr/>
          <p:nvPr/>
        </p:nvPicPr>
        <p:blipFill>
          <a:blip r:embed="rId1"/>
          <a:stretch/>
        </p:blipFill>
        <p:spPr>
          <a:xfrm>
            <a:off x="414360" y="1719360"/>
            <a:ext cx="8315280" cy="3419280"/>
          </a:xfrm>
          <a:prstGeom prst="rect">
            <a:avLst/>
          </a:prstGeom>
          <a:ln w="0">
            <a:noFill/>
          </a:ln>
        </p:spPr>
      </p:pic>
      <p:pic>
        <p:nvPicPr>
          <p:cNvPr id="1094" name="Picture 1" descr=""/>
          <p:cNvPicPr/>
          <p:nvPr/>
        </p:nvPicPr>
        <p:blipFill>
          <a:blip r:embed="rId2"/>
          <a:stretch/>
        </p:blipFill>
        <p:spPr>
          <a:xfrm>
            <a:off x="395280" y="1743120"/>
            <a:ext cx="1800360" cy="428760"/>
          </a:xfrm>
          <a:prstGeom prst="rect">
            <a:avLst/>
          </a:prstGeom>
          <a:ln w="0">
            <a:noFill/>
          </a:ln>
        </p:spPr>
      </p:pic>
      <p:pic>
        <p:nvPicPr>
          <p:cNvPr id="1095" name="Picture 1" descr=""/>
          <p:cNvPicPr/>
          <p:nvPr/>
        </p:nvPicPr>
        <p:blipFill>
          <a:blip r:embed="rId3"/>
          <a:stretch/>
        </p:blipFill>
        <p:spPr>
          <a:xfrm>
            <a:off x="2195640" y="1773360"/>
            <a:ext cx="4248000" cy="428400"/>
          </a:xfrm>
          <a:prstGeom prst="rect">
            <a:avLst/>
          </a:prstGeom>
          <a:ln w="0">
            <a:noFill/>
          </a:ln>
        </p:spPr>
      </p:pic>
      <p:pic>
        <p:nvPicPr>
          <p:cNvPr id="1096" name="Picture 1" descr=""/>
          <p:cNvPicPr/>
          <p:nvPr/>
        </p:nvPicPr>
        <p:blipFill>
          <a:blip r:embed="rId4"/>
          <a:stretch/>
        </p:blipFill>
        <p:spPr>
          <a:xfrm>
            <a:off x="395280" y="2378160"/>
            <a:ext cx="3168720" cy="1555560"/>
          </a:xfrm>
          <a:prstGeom prst="rect">
            <a:avLst/>
          </a:prstGeom>
          <a:ln w="0">
            <a:noFill/>
          </a:ln>
        </p:spPr>
      </p:pic>
      <p:pic>
        <p:nvPicPr>
          <p:cNvPr id="1097" name="Picture 1" descr=""/>
          <p:cNvPicPr/>
          <p:nvPr/>
        </p:nvPicPr>
        <p:blipFill>
          <a:blip r:embed="rId5"/>
          <a:stretch/>
        </p:blipFill>
        <p:spPr>
          <a:xfrm>
            <a:off x="3564000" y="2909880"/>
            <a:ext cx="4103640" cy="428760"/>
          </a:xfrm>
          <a:prstGeom prst="rect">
            <a:avLst/>
          </a:prstGeom>
          <a:ln w="0">
            <a:noFill/>
          </a:ln>
        </p:spPr>
      </p:pic>
      <p:pic>
        <p:nvPicPr>
          <p:cNvPr id="1098" name="Picture 1" descr=""/>
          <p:cNvPicPr/>
          <p:nvPr/>
        </p:nvPicPr>
        <p:blipFill>
          <a:blip r:embed="rId6"/>
          <a:stretch/>
        </p:blipFill>
        <p:spPr>
          <a:xfrm>
            <a:off x="7783560" y="2924280"/>
            <a:ext cx="1109520" cy="428400"/>
          </a:xfrm>
          <a:prstGeom prst="rect">
            <a:avLst/>
          </a:prstGeom>
          <a:ln w="0">
            <a:noFill/>
          </a:ln>
        </p:spPr>
      </p:pic>
      <p:pic>
        <p:nvPicPr>
          <p:cNvPr id="1099" name="Picture 1" descr=""/>
          <p:cNvPicPr/>
          <p:nvPr/>
        </p:nvPicPr>
        <p:blipFill>
          <a:blip r:embed="rId7"/>
          <a:stretch/>
        </p:blipFill>
        <p:spPr>
          <a:xfrm>
            <a:off x="539640" y="4062240"/>
            <a:ext cx="3816360" cy="428760"/>
          </a:xfrm>
          <a:prstGeom prst="rect">
            <a:avLst/>
          </a:prstGeom>
          <a:ln w="0">
            <a:noFill/>
          </a:ln>
        </p:spPr>
      </p:pic>
      <p:pic>
        <p:nvPicPr>
          <p:cNvPr id="1100" name="Picture 1" descr=""/>
          <p:cNvPicPr/>
          <p:nvPr/>
        </p:nvPicPr>
        <p:blipFill>
          <a:blip r:embed="rId8"/>
          <a:stretch/>
        </p:blipFill>
        <p:spPr>
          <a:xfrm>
            <a:off x="4427640" y="4048200"/>
            <a:ext cx="4392360" cy="428400"/>
          </a:xfrm>
          <a:prstGeom prst="rect">
            <a:avLst/>
          </a:prstGeom>
          <a:ln w="0">
            <a:noFill/>
          </a:ln>
        </p:spPr>
      </p:pic>
      <p:pic>
        <p:nvPicPr>
          <p:cNvPr id="1101" name="Picture 1" descr=""/>
          <p:cNvPicPr/>
          <p:nvPr/>
        </p:nvPicPr>
        <p:blipFill>
          <a:blip r:embed="rId9"/>
          <a:stretch/>
        </p:blipFill>
        <p:spPr>
          <a:xfrm>
            <a:off x="453960" y="4638600"/>
            <a:ext cx="4103640" cy="428760"/>
          </a:xfrm>
          <a:prstGeom prst="rect">
            <a:avLst/>
          </a:prstGeom>
          <a:ln w="0">
            <a:noFill/>
          </a:ln>
        </p:spPr>
      </p:pic>
      <p:pic>
        <p:nvPicPr>
          <p:cNvPr id="1102" name="Picture 1" descr=""/>
          <p:cNvPicPr/>
          <p:nvPr/>
        </p:nvPicPr>
        <p:blipFill>
          <a:blip r:embed="rId10"/>
          <a:stretch/>
        </p:blipFill>
        <p:spPr>
          <a:xfrm>
            <a:off x="4572000" y="4610160"/>
            <a:ext cx="4248000" cy="42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10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5" dur="10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0" dur="10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10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0" dur="10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4" dur="10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9" dur="10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4" dur="10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9" dur="10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图片 60428" descr=""/>
          <p:cNvPicPr/>
          <p:nvPr/>
        </p:nvPicPr>
        <p:blipFill>
          <a:blip r:embed="rId1"/>
          <a:stretch/>
        </p:blipFill>
        <p:spPr>
          <a:xfrm>
            <a:off x="271440" y="692280"/>
            <a:ext cx="8601120" cy="3267000"/>
          </a:xfrm>
          <a:prstGeom prst="rect">
            <a:avLst/>
          </a:prstGeom>
          <a:ln w="0">
            <a:noFill/>
          </a:ln>
        </p:spPr>
      </p:pic>
      <p:pic>
        <p:nvPicPr>
          <p:cNvPr id="1025" name="图片 60429" descr=""/>
          <p:cNvPicPr/>
          <p:nvPr/>
        </p:nvPicPr>
        <p:blipFill>
          <a:blip r:embed="rId2"/>
          <a:stretch/>
        </p:blipFill>
        <p:spPr>
          <a:xfrm>
            <a:off x="2987640" y="4076640"/>
            <a:ext cx="2657520" cy="261000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3"/>
          <a:stretch/>
        </p:blipFill>
        <p:spPr>
          <a:xfrm>
            <a:off x="8028000" y="2349360"/>
            <a:ext cx="57636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图片 59410" descr=""/>
          <p:cNvPicPr/>
          <p:nvPr/>
        </p:nvPicPr>
        <p:blipFill>
          <a:blip r:embed="rId1"/>
          <a:stretch/>
        </p:blipFill>
        <p:spPr>
          <a:xfrm>
            <a:off x="252360" y="1125360"/>
            <a:ext cx="8639280" cy="168624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59411" descr=""/>
          <p:cNvPicPr/>
          <p:nvPr/>
        </p:nvPicPr>
        <p:blipFill>
          <a:blip r:embed="rId2"/>
          <a:stretch/>
        </p:blipFill>
        <p:spPr>
          <a:xfrm>
            <a:off x="2411280" y="3284640"/>
            <a:ext cx="4267440" cy="246672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3"/>
          <a:stretch/>
        </p:blipFill>
        <p:spPr>
          <a:xfrm>
            <a:off x="900000" y="2276640"/>
            <a:ext cx="935280" cy="42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0" name="图片 58373" descr=""/>
          <p:cNvPicPr/>
          <p:nvPr/>
        </p:nvPicPr>
        <p:blipFill>
          <a:blip r:embed="rId1"/>
          <a:stretch/>
        </p:blipFill>
        <p:spPr>
          <a:xfrm>
            <a:off x="247680" y="1185840"/>
            <a:ext cx="8648640" cy="448632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2"/>
          <a:stretch/>
        </p:blipFill>
        <p:spPr>
          <a:xfrm>
            <a:off x="684360" y="2909880"/>
            <a:ext cx="5111640" cy="42876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3"/>
          <a:stretch/>
        </p:blipFill>
        <p:spPr>
          <a:xfrm>
            <a:off x="525600" y="3443400"/>
            <a:ext cx="2160360" cy="42840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4"/>
          <a:stretch/>
        </p:blipFill>
        <p:spPr>
          <a:xfrm>
            <a:off x="2700360" y="3443400"/>
            <a:ext cx="3024000" cy="42840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5"/>
          <a:stretch/>
        </p:blipFill>
        <p:spPr>
          <a:xfrm>
            <a:off x="324000" y="4019400"/>
            <a:ext cx="1081080" cy="42876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6"/>
          <a:stretch/>
        </p:blipFill>
        <p:spPr>
          <a:xfrm>
            <a:off x="1476360" y="4019400"/>
            <a:ext cx="2808360" cy="42876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7"/>
          <a:stretch/>
        </p:blipFill>
        <p:spPr>
          <a:xfrm>
            <a:off x="4284720" y="4019400"/>
            <a:ext cx="1439640" cy="42876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8"/>
          <a:stretch/>
        </p:blipFill>
        <p:spPr>
          <a:xfrm>
            <a:off x="453960" y="4638600"/>
            <a:ext cx="3240000" cy="42876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9"/>
          <a:stretch/>
        </p:blipFill>
        <p:spPr>
          <a:xfrm>
            <a:off x="3708360" y="4595760"/>
            <a:ext cx="2016000" cy="42876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10"/>
          <a:stretch/>
        </p:blipFill>
        <p:spPr>
          <a:xfrm>
            <a:off x="468360" y="5172120"/>
            <a:ext cx="525600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图片 57352" descr=""/>
          <p:cNvPicPr/>
          <p:nvPr/>
        </p:nvPicPr>
        <p:blipFill>
          <a:blip r:embed="rId1"/>
          <a:stretch/>
        </p:blipFill>
        <p:spPr>
          <a:xfrm>
            <a:off x="281160" y="268200"/>
            <a:ext cx="8581680" cy="4600800"/>
          </a:xfrm>
          <a:prstGeom prst="rect">
            <a:avLst/>
          </a:prstGeom>
          <a:ln w="0">
            <a:noFill/>
          </a:ln>
        </p:spPr>
      </p:pic>
      <p:pic>
        <p:nvPicPr>
          <p:cNvPr id="1041" name="图片 57353" descr=""/>
          <p:cNvPicPr/>
          <p:nvPr/>
        </p:nvPicPr>
        <p:blipFill>
          <a:blip r:embed="rId2"/>
          <a:stretch/>
        </p:blipFill>
        <p:spPr>
          <a:xfrm>
            <a:off x="557280" y="5141880"/>
            <a:ext cx="8191440" cy="160020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3"/>
          <a:stretch/>
        </p:blipFill>
        <p:spPr>
          <a:xfrm>
            <a:off x="395280" y="5157720"/>
            <a:ext cx="8424720" cy="428760"/>
          </a:xfrm>
          <a:prstGeom prst="rect">
            <a:avLst/>
          </a:prstGeom>
          <a:ln w="0">
            <a:noFill/>
          </a:ln>
        </p:spPr>
      </p:pic>
      <p:grpSp>
        <p:nvGrpSpPr>
          <p:cNvPr id="1043" name="组合 57359"/>
          <p:cNvGrpSpPr/>
          <p:nvPr/>
        </p:nvGrpSpPr>
        <p:grpSpPr>
          <a:xfrm>
            <a:off x="3710160" y="2392200"/>
            <a:ext cx="2446200" cy="2476800"/>
            <a:chOff x="3710160" y="2392200"/>
            <a:chExt cx="2446200" cy="2476800"/>
          </a:xfrm>
        </p:grpSpPr>
        <p:pic>
          <p:nvPicPr>
            <p:cNvPr id="1044" name="图片 57355" descr=""/>
            <p:cNvPicPr/>
            <p:nvPr/>
          </p:nvPicPr>
          <p:blipFill>
            <a:blip r:embed="rId4"/>
            <a:stretch/>
          </p:blipFill>
          <p:spPr>
            <a:xfrm>
              <a:off x="3710160" y="2800440"/>
              <a:ext cx="2152440" cy="16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5" name="Picture 1" descr=""/>
            <p:cNvPicPr/>
            <p:nvPr/>
          </p:nvPicPr>
          <p:blipFill>
            <a:blip r:embed="rId5"/>
            <a:stretch/>
          </p:blipFill>
          <p:spPr>
            <a:xfrm>
              <a:off x="4643280" y="2392200"/>
              <a:ext cx="576360" cy="42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Picture 1" descr=""/>
            <p:cNvPicPr/>
            <p:nvPr/>
          </p:nvPicPr>
          <p:blipFill>
            <a:blip r:embed="rId6"/>
            <a:stretch/>
          </p:blipFill>
          <p:spPr>
            <a:xfrm>
              <a:off x="4643280" y="4365720"/>
              <a:ext cx="57636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7" name="Picture 1" descr=""/>
            <p:cNvPicPr/>
            <p:nvPr/>
          </p:nvPicPr>
          <p:blipFill>
            <a:blip r:embed="rId7"/>
            <a:stretch/>
          </p:blipFill>
          <p:spPr>
            <a:xfrm>
              <a:off x="5580000" y="2997360"/>
              <a:ext cx="576360" cy="502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48" name="Picture 1" descr=""/>
          <p:cNvPicPr/>
          <p:nvPr/>
        </p:nvPicPr>
        <p:blipFill>
          <a:blip r:embed="rId8"/>
          <a:stretch/>
        </p:blipFill>
        <p:spPr>
          <a:xfrm>
            <a:off x="468360" y="5734080"/>
            <a:ext cx="8424720" cy="42876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9"/>
          <a:stretch/>
        </p:blipFill>
        <p:spPr>
          <a:xfrm>
            <a:off x="395280" y="6265800"/>
            <a:ext cx="84247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0" name="图片 56324" descr=""/>
          <p:cNvPicPr/>
          <p:nvPr/>
        </p:nvPicPr>
        <p:blipFill>
          <a:blip r:embed="rId1"/>
          <a:stretch/>
        </p:blipFill>
        <p:spPr>
          <a:xfrm>
            <a:off x="266760" y="743040"/>
            <a:ext cx="8610480" cy="1533600"/>
          </a:xfrm>
          <a:prstGeom prst="rect">
            <a:avLst/>
          </a:prstGeom>
          <a:ln w="0">
            <a:noFill/>
          </a:ln>
        </p:spPr>
      </p:pic>
      <p:pic>
        <p:nvPicPr>
          <p:cNvPr id="1051" name="图片 56325" descr=""/>
          <p:cNvPicPr/>
          <p:nvPr/>
        </p:nvPicPr>
        <p:blipFill>
          <a:blip r:embed="rId2"/>
          <a:stretch/>
        </p:blipFill>
        <p:spPr>
          <a:xfrm>
            <a:off x="682560" y="2389320"/>
            <a:ext cx="8210520" cy="435276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3"/>
          <a:stretch/>
        </p:blipFill>
        <p:spPr>
          <a:xfrm>
            <a:off x="539640" y="4005360"/>
            <a:ext cx="4032360" cy="428400"/>
          </a:xfrm>
          <a:prstGeom prst="rect">
            <a:avLst/>
          </a:prstGeom>
          <a:ln w="0">
            <a:noFill/>
          </a:ln>
        </p:spPr>
      </p:pic>
      <p:pic>
        <p:nvPicPr>
          <p:cNvPr id="1053" name="图片 56327" descr=""/>
          <p:cNvPicPr/>
          <p:nvPr/>
        </p:nvPicPr>
        <p:blipFill>
          <a:blip r:embed="rId4"/>
          <a:stretch/>
        </p:blipFill>
        <p:spPr>
          <a:xfrm>
            <a:off x="5767560" y="3971880"/>
            <a:ext cx="3066840" cy="276228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5"/>
          <a:stretch/>
        </p:blipFill>
        <p:spPr>
          <a:xfrm>
            <a:off x="4572000" y="3990960"/>
            <a:ext cx="1008000" cy="42876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6"/>
          <a:stretch/>
        </p:blipFill>
        <p:spPr>
          <a:xfrm>
            <a:off x="539640" y="4581360"/>
            <a:ext cx="2519640" cy="42876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7"/>
          <a:stretch/>
        </p:blipFill>
        <p:spPr>
          <a:xfrm>
            <a:off x="3132000" y="4551480"/>
            <a:ext cx="1944720" cy="42840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8"/>
          <a:stretch/>
        </p:blipFill>
        <p:spPr>
          <a:xfrm>
            <a:off x="5148360" y="4581360"/>
            <a:ext cx="576000" cy="42876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9"/>
          <a:stretch/>
        </p:blipFill>
        <p:spPr>
          <a:xfrm>
            <a:off x="468360" y="5157720"/>
            <a:ext cx="5183280" cy="42876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" descr=""/>
          <p:cNvPicPr/>
          <p:nvPr/>
        </p:nvPicPr>
        <p:blipFill>
          <a:blip r:embed="rId10"/>
          <a:stretch/>
        </p:blipFill>
        <p:spPr>
          <a:xfrm>
            <a:off x="395280" y="5719680"/>
            <a:ext cx="1584360" cy="42876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11"/>
          <a:stretch/>
        </p:blipFill>
        <p:spPr>
          <a:xfrm>
            <a:off x="2050920" y="5719680"/>
            <a:ext cx="3529080" cy="42876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12"/>
          <a:stretch/>
        </p:blipFill>
        <p:spPr>
          <a:xfrm>
            <a:off x="395280" y="6265800"/>
            <a:ext cx="432108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2" name="图片 55300" descr=""/>
          <p:cNvPicPr/>
          <p:nvPr/>
        </p:nvPicPr>
        <p:blipFill>
          <a:blip r:embed="rId1"/>
          <a:stretch/>
        </p:blipFill>
        <p:spPr>
          <a:xfrm>
            <a:off x="1905120" y="1995480"/>
            <a:ext cx="5333760" cy="286704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" descr=""/>
          <p:cNvPicPr/>
          <p:nvPr/>
        </p:nvPicPr>
        <p:blipFill>
          <a:blip r:embed="rId2"/>
          <a:stretch/>
        </p:blipFill>
        <p:spPr>
          <a:xfrm>
            <a:off x="1835280" y="2046240"/>
            <a:ext cx="5976720" cy="51912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" descr=""/>
          <p:cNvPicPr/>
          <p:nvPr/>
        </p:nvPicPr>
        <p:blipFill>
          <a:blip r:embed="rId3"/>
          <a:stretch/>
        </p:blipFill>
        <p:spPr>
          <a:xfrm>
            <a:off x="1763640" y="2651040"/>
            <a:ext cx="5977080" cy="106524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" descr=""/>
          <p:cNvPicPr/>
          <p:nvPr/>
        </p:nvPicPr>
        <p:blipFill>
          <a:blip r:embed="rId4"/>
          <a:stretch/>
        </p:blipFill>
        <p:spPr>
          <a:xfrm>
            <a:off x="1692360" y="3645000"/>
            <a:ext cx="5976720" cy="51912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1" descr=""/>
          <p:cNvPicPr/>
          <p:nvPr/>
        </p:nvPicPr>
        <p:blipFill>
          <a:blip r:embed="rId5"/>
          <a:stretch/>
        </p:blipFill>
        <p:spPr>
          <a:xfrm>
            <a:off x="1692360" y="4292640"/>
            <a:ext cx="597672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1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10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7" name="图片 54276" descr=""/>
          <p:cNvPicPr/>
          <p:nvPr/>
        </p:nvPicPr>
        <p:blipFill>
          <a:blip r:embed="rId1"/>
          <a:stretch/>
        </p:blipFill>
        <p:spPr>
          <a:xfrm>
            <a:off x="476280" y="1152360"/>
            <a:ext cx="8191440" cy="455328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1" descr=""/>
          <p:cNvPicPr/>
          <p:nvPr/>
        </p:nvPicPr>
        <p:blipFill>
          <a:blip r:embed="rId2"/>
          <a:stretch/>
        </p:blipFill>
        <p:spPr>
          <a:xfrm>
            <a:off x="395280" y="1182600"/>
            <a:ext cx="7921800" cy="103680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1" descr=""/>
          <p:cNvPicPr/>
          <p:nvPr/>
        </p:nvPicPr>
        <p:blipFill>
          <a:blip r:embed="rId3"/>
          <a:stretch/>
        </p:blipFill>
        <p:spPr>
          <a:xfrm>
            <a:off x="468360" y="2319480"/>
            <a:ext cx="4824360" cy="42840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1" descr=""/>
          <p:cNvPicPr/>
          <p:nvPr/>
        </p:nvPicPr>
        <p:blipFill>
          <a:blip r:embed="rId4"/>
          <a:stretch/>
        </p:blipFill>
        <p:spPr>
          <a:xfrm>
            <a:off x="5364000" y="2319480"/>
            <a:ext cx="2376720" cy="42840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1" descr=""/>
          <p:cNvPicPr/>
          <p:nvPr/>
        </p:nvPicPr>
        <p:blipFill>
          <a:blip r:embed="rId5"/>
          <a:stretch/>
        </p:blipFill>
        <p:spPr>
          <a:xfrm>
            <a:off x="324000" y="2938320"/>
            <a:ext cx="5976720" cy="77796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1" descr=""/>
          <p:cNvPicPr/>
          <p:nvPr/>
        </p:nvPicPr>
        <p:blipFill>
          <a:blip r:embed="rId6"/>
          <a:stretch/>
        </p:blipFill>
        <p:spPr>
          <a:xfrm>
            <a:off x="6357960" y="2924280"/>
            <a:ext cx="2535120" cy="77760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1" descr=""/>
          <p:cNvPicPr/>
          <p:nvPr/>
        </p:nvPicPr>
        <p:blipFill>
          <a:blip r:embed="rId7"/>
          <a:stretch/>
        </p:blipFill>
        <p:spPr>
          <a:xfrm>
            <a:off x="466560" y="3933720"/>
            <a:ext cx="1152720" cy="77796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1" descr=""/>
          <p:cNvPicPr/>
          <p:nvPr/>
        </p:nvPicPr>
        <p:blipFill>
          <a:blip r:embed="rId8"/>
          <a:stretch/>
        </p:blipFill>
        <p:spPr>
          <a:xfrm>
            <a:off x="1619280" y="3903840"/>
            <a:ext cx="2535120" cy="77760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1" descr=""/>
          <p:cNvPicPr/>
          <p:nvPr/>
        </p:nvPicPr>
        <p:blipFill>
          <a:blip r:embed="rId9"/>
          <a:stretch/>
        </p:blipFill>
        <p:spPr>
          <a:xfrm>
            <a:off x="4211640" y="3903840"/>
            <a:ext cx="3024360" cy="77760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1" descr=""/>
          <p:cNvPicPr/>
          <p:nvPr/>
        </p:nvPicPr>
        <p:blipFill>
          <a:blip r:embed="rId10"/>
          <a:stretch/>
        </p:blipFill>
        <p:spPr>
          <a:xfrm>
            <a:off x="7308720" y="4076640"/>
            <a:ext cx="1584360" cy="42876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1" descr=""/>
          <p:cNvPicPr/>
          <p:nvPr/>
        </p:nvPicPr>
        <p:blipFill>
          <a:blip r:embed="rId11"/>
          <a:stretch/>
        </p:blipFill>
        <p:spPr>
          <a:xfrm>
            <a:off x="324000" y="4883040"/>
            <a:ext cx="302400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1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1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1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10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10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10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10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10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10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10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8" name="图片 76802" descr=""/>
          <p:cNvPicPr/>
          <p:nvPr/>
        </p:nvPicPr>
        <p:blipFill>
          <a:blip r:embed="rId1"/>
          <a:stretch/>
        </p:blipFill>
        <p:spPr>
          <a:xfrm>
            <a:off x="243000" y="800280"/>
            <a:ext cx="8658000" cy="558144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1" descr=""/>
          <p:cNvPicPr/>
          <p:nvPr/>
        </p:nvPicPr>
        <p:blipFill>
          <a:blip r:embed="rId2"/>
          <a:stretch/>
        </p:blipFill>
        <p:spPr>
          <a:xfrm>
            <a:off x="684360" y="2506680"/>
            <a:ext cx="4895640" cy="428760"/>
          </a:xfrm>
          <a:prstGeom prst="rect">
            <a:avLst/>
          </a:prstGeom>
          <a:ln w="0">
            <a:noFill/>
          </a:ln>
        </p:spPr>
      </p:pic>
      <p:pic>
        <p:nvPicPr>
          <p:cNvPr id="1080" name="图片 76804" descr=""/>
          <p:cNvPicPr/>
          <p:nvPr/>
        </p:nvPicPr>
        <p:blipFill>
          <a:blip r:embed="rId3"/>
          <a:stretch/>
        </p:blipFill>
        <p:spPr>
          <a:xfrm>
            <a:off x="5840280" y="2503440"/>
            <a:ext cx="3038760" cy="247644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1" descr=""/>
          <p:cNvPicPr/>
          <p:nvPr/>
        </p:nvPicPr>
        <p:blipFill>
          <a:blip r:embed="rId4"/>
          <a:stretch/>
        </p:blipFill>
        <p:spPr>
          <a:xfrm>
            <a:off x="539640" y="3083040"/>
            <a:ext cx="5327640" cy="42840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1" descr=""/>
          <p:cNvPicPr/>
          <p:nvPr/>
        </p:nvPicPr>
        <p:blipFill>
          <a:blip r:embed="rId5"/>
          <a:stretch/>
        </p:blipFill>
        <p:spPr>
          <a:xfrm>
            <a:off x="466560" y="3645000"/>
            <a:ext cx="1584360" cy="42840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1" descr=""/>
          <p:cNvPicPr/>
          <p:nvPr/>
        </p:nvPicPr>
        <p:blipFill>
          <a:blip r:embed="rId6"/>
          <a:stretch/>
        </p:blipFill>
        <p:spPr>
          <a:xfrm>
            <a:off x="2124000" y="3630600"/>
            <a:ext cx="3672000" cy="42876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1" descr=""/>
          <p:cNvPicPr/>
          <p:nvPr/>
        </p:nvPicPr>
        <p:blipFill>
          <a:blip r:embed="rId7"/>
          <a:stretch/>
        </p:blipFill>
        <p:spPr>
          <a:xfrm>
            <a:off x="468360" y="4206960"/>
            <a:ext cx="3311640" cy="42840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1" descr=""/>
          <p:cNvPicPr/>
          <p:nvPr/>
        </p:nvPicPr>
        <p:blipFill>
          <a:blip r:embed="rId8"/>
          <a:stretch/>
        </p:blipFill>
        <p:spPr>
          <a:xfrm>
            <a:off x="3780000" y="4221000"/>
            <a:ext cx="1944360" cy="428760"/>
          </a:xfrm>
          <a:prstGeom prst="rect">
            <a:avLst/>
          </a:prstGeom>
          <a:ln w="0">
            <a:noFill/>
          </a:ln>
        </p:spPr>
      </p:pic>
      <p:pic>
        <p:nvPicPr>
          <p:cNvPr id="1086" name="Picture 1" descr=""/>
          <p:cNvPicPr/>
          <p:nvPr/>
        </p:nvPicPr>
        <p:blipFill>
          <a:blip r:embed="rId9"/>
          <a:stretch/>
        </p:blipFill>
        <p:spPr>
          <a:xfrm>
            <a:off x="468360" y="4797360"/>
            <a:ext cx="2232000" cy="42876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1" descr=""/>
          <p:cNvPicPr/>
          <p:nvPr/>
        </p:nvPicPr>
        <p:blipFill>
          <a:blip r:embed="rId10"/>
          <a:stretch/>
        </p:blipFill>
        <p:spPr>
          <a:xfrm>
            <a:off x="2771640" y="4797360"/>
            <a:ext cx="2376720" cy="42876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1" descr=""/>
          <p:cNvPicPr/>
          <p:nvPr/>
        </p:nvPicPr>
        <p:blipFill>
          <a:blip r:embed="rId11"/>
          <a:stretch/>
        </p:blipFill>
        <p:spPr>
          <a:xfrm>
            <a:off x="5292720" y="4767120"/>
            <a:ext cx="576360" cy="428760"/>
          </a:xfrm>
          <a:prstGeom prst="rect">
            <a:avLst/>
          </a:prstGeom>
          <a:ln w="0">
            <a:noFill/>
          </a:ln>
        </p:spPr>
      </p:pic>
      <p:pic>
        <p:nvPicPr>
          <p:cNvPr id="1089" name="Picture 1" descr=""/>
          <p:cNvPicPr/>
          <p:nvPr/>
        </p:nvPicPr>
        <p:blipFill>
          <a:blip r:embed="rId12"/>
          <a:stretch/>
        </p:blipFill>
        <p:spPr>
          <a:xfrm>
            <a:off x="324000" y="5373720"/>
            <a:ext cx="5472000" cy="428760"/>
          </a:xfrm>
          <a:prstGeom prst="rect">
            <a:avLst/>
          </a:prstGeom>
          <a:ln w="0">
            <a:noFill/>
          </a:ln>
        </p:spPr>
      </p:pic>
      <p:pic>
        <p:nvPicPr>
          <p:cNvPr id="1090" name="Picture 1" descr=""/>
          <p:cNvPicPr/>
          <p:nvPr/>
        </p:nvPicPr>
        <p:blipFill>
          <a:blip r:embed="rId13"/>
          <a:stretch/>
        </p:blipFill>
        <p:spPr>
          <a:xfrm>
            <a:off x="395280" y="5950080"/>
            <a:ext cx="1655640" cy="428400"/>
          </a:xfrm>
          <a:prstGeom prst="rect">
            <a:avLst/>
          </a:prstGeom>
          <a:ln w="0">
            <a:noFill/>
          </a:ln>
        </p:spPr>
      </p:pic>
      <p:pic>
        <p:nvPicPr>
          <p:cNvPr id="1091" name="Picture 1" descr=""/>
          <p:cNvPicPr/>
          <p:nvPr/>
        </p:nvPicPr>
        <p:blipFill>
          <a:blip r:embed="rId14"/>
          <a:stretch/>
        </p:blipFill>
        <p:spPr>
          <a:xfrm>
            <a:off x="2109960" y="5935680"/>
            <a:ext cx="5198760" cy="428760"/>
          </a:xfrm>
          <a:prstGeom prst="rect">
            <a:avLst/>
          </a:prstGeom>
          <a:ln w="0">
            <a:noFill/>
          </a:ln>
        </p:spPr>
      </p:pic>
      <p:pic>
        <p:nvPicPr>
          <p:cNvPr id="1092" name="Picture 1" descr=""/>
          <p:cNvPicPr/>
          <p:nvPr/>
        </p:nvPicPr>
        <p:blipFill>
          <a:blip r:embed="rId15"/>
          <a:stretch/>
        </p:blipFill>
        <p:spPr>
          <a:xfrm>
            <a:off x="7380360" y="5950080"/>
            <a:ext cx="1584360" cy="42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4" dur="10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9" dur="10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3" dur="10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7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2" dur="10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6" dur="10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1" dur="10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5" dur="10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0" dur="10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5" dur="10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9" dur="10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3" dur="10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8" dur="10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3" dur="10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02T09:19:57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